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A75-0963-43EE-8414-44759CB0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E92-A6F7-4CB0-97C0-3D32D5A9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7BC-D52C-4742-B66C-2D1681A7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EB3-64A3-48D2-87F6-DC46E379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33A-C778-424B-AC9F-4750BF9D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4DC-0743-4FF4-8D6F-626FBBB0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4D3-256D-4DC3-A485-3CF9BCD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CC7-C26F-4E84-94E6-D040F439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C8E-4D47-46AF-8207-F29A3504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A6B-ECAF-4E21-9896-A9BF9C1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A23-E2D0-48E3-A3FF-2373F099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CA7-C005-4943-9BF4-BD4C9FB0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14B97-C71F-4FED-B5B7-AB785A51A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4240"/>
            <a:ext cx="10080720" cy="70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g: “Sunday Bloody Sunday” by 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um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r/Performer: 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Reaction: See ly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Bloody Sunday, Ireland 19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nuary 30th, 19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tish troops kill 13 Irish Catholics in peaceful demon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ops eventually found justified in 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cca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lbu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Track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op music fans – world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inion of Bloody Sunday (U2 is Irish ba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aker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no – voice of s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 fill="hold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7520" y="9360"/>
            <a:ext cx="10080720" cy="74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sting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roken bottles under children's fee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And mothers, children, brothers, sisters / Torn apar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We eat and drink while tomorrow they die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erences to Pe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I won't heed the battle cal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'Cause we can be as one tonigh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To claim the victory that Jesus w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ed ques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How long must we sing this song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ny lost but who has won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APS/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rching beat - Call to ar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Albu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W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 – a commenta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Irish Cathol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 fill="hold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 fill="hold"/>
                                        <p:tgtEl>
                                          <p:spTgt spid="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41:36Z</dcterms:created>
  <dc:creator>Nick Chanese</dc:creator>
  <dc:description/>
  <dc:language>en-US</dc:language>
  <cp:lastModifiedBy>Nick Chanese</cp:lastModifiedBy>
  <dcterms:modified xsi:type="dcterms:W3CDTF">2010-10-04T00:51:25Z</dcterms:modified>
  <cp:revision>6</cp:revision>
  <dc:subject/>
  <dc:title/>
</cp:coreProperties>
</file>